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7A45-1FC3-45D9-B82F-244A87C9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5653-7BAB-4728-9AE8-87D6BFCC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6F30-0A93-45DC-9CED-AAFE72D5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B944-BE22-439B-A170-FA9F1E92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8CE2-A755-4D7D-9664-394291D4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8900-CF15-47FA-8122-EAB63C51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9F64-F505-4997-92C9-56D09F4D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FE71-1D27-4A6E-9CF1-C0F4DD34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7DF2-A68F-4D8E-9D11-33380D59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DF4-ECDC-4999-B444-CDC8D772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BB03-8FA1-4A8E-A549-348453AC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0706-66FB-4FDA-9028-2B9D3DFE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A172-071C-4012-B84B-CE257157E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01.jp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4"/>
          <p:cNvSpPr/>
          <p:nvPr/>
        </p:nvSpPr>
        <p:spPr>
          <a:xfrm>
            <a:off x="0" y="40892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2f2f2"/>
                </a:solidFill>
                <a:latin typeface="黑体"/>
                <a:ea typeface="黑体"/>
              </a:rPr>
              <a:t>单元八 护理管理的控制职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4"/>
          <p:cNvSpPr/>
          <p:nvPr/>
        </p:nvSpPr>
        <p:spPr>
          <a:xfrm>
            <a:off x="5135400" y="133020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幼圆"/>
                <a:ea typeface="幼圆"/>
              </a:rPr>
              <a:t>护理管理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二  控制过程和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838080" y="1981080"/>
            <a:ext cx="7467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控制的基本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确立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衡量成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纠正偏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二  控制过程和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838080" y="1981080"/>
            <a:ext cx="74678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控制的常用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行为控制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组织文化与团体控制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838080" y="1676520"/>
            <a:ext cx="7467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护理职业风险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一）护理风险与护理风险管理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护理风险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指从事医疗护理服务活动中可能发生的危险与危害，受主客观因素的影响，存在着突发性和难以预测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838080" y="1676520"/>
            <a:ext cx="7467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护理职业风险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一）护理风险与护理风险管理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护理风险管理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指对现有和潜在的护理风险的识别、评估、评价和处理，有组织、有系统的地消除或减少护理风险的发生，以及其带给病人和医院的危害和经济损失，保障病人和所有医务人员的人身安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838080" y="1676520"/>
            <a:ext cx="7467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护理职业风险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二）护理风险存在的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人员自身因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因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组织管理因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医院卫生环境因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医疗设备、器械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838080" y="1676520"/>
            <a:ext cx="746784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护理职业风险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三）预防和控制护理风险的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认真贯彻护理风险管理程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完善落实风险管理制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加强护理人员的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注重部分特殊或有自杀倾向病人的管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加强护患沟通，有效化解护理风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改善住院环境，加强物质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838080" y="1676520"/>
            <a:ext cx="74678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护理职业安全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一）护理安全、护理安全管理的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护理安全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指在实施护理服务全过程中，病人不发生法律和法定的规章制度允许范围以外的心理、人体结构或功能上的损害、障碍、缺陷或死亡，它包括了一切护理缺陷和一切不安全的隐患。涉及到参与护理活动的每个人员及各个环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838080" y="1676520"/>
            <a:ext cx="7467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护理职业安全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一）护理安全、护理安全管理的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护理安全管理 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指为了保证患者及医务人员身心健康，针对各种不安全因素进行有效控制。包括病人安全管理和护理人员职业防护，是护理质量管理的重要内容，也是医院安全管理的一部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838080" y="1676520"/>
            <a:ext cx="7467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护理职业安全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二）影响护理安全管理的主要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安全管理制度不健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士个人因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人员的配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者因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医院环境与设备因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/>
          <p:cNvSpPr/>
          <p:nvPr/>
        </p:nvSpPr>
        <p:spPr>
          <a:xfrm>
            <a:off x="838080" y="1676520"/>
            <a:ext cx="74678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护理职业安全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三）护理安全管理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建立健全护理安全管理组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健全护理安全管理制度并认真落实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加强护理安全意识、法律意识培养和职业道德教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高业务能力和技术水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理配置人力资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高住院环境安全度，加强物质管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贯彻执行中国医院协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00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患者安全目标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图示 18" descr=""/>
          <p:cNvPicPr/>
          <p:nvPr/>
        </p:nvPicPr>
        <p:blipFill>
          <a:blip r:embed="rId2"/>
          <a:stretch/>
        </p:blipFill>
        <p:spPr>
          <a:xfrm>
            <a:off x="1463760" y="2494080"/>
            <a:ext cx="6095880" cy="2236680"/>
          </a:xfrm>
          <a:prstGeom prst="rect">
            <a:avLst/>
          </a:prstGeom>
          <a:ln w="0">
            <a:noFill/>
          </a:ln>
        </p:spPr>
      </p:pic>
      <p:sp>
        <p:nvSpPr>
          <p:cNvPr id="51" name="矩形 16"/>
          <p:cNvSpPr/>
          <p:nvPr/>
        </p:nvSpPr>
        <p:spPr>
          <a:xfrm>
            <a:off x="228600" y="8380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838080" y="1676520"/>
            <a:ext cx="74678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护理技术成本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基本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成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费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成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标准护理成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838080" y="1676520"/>
            <a:ext cx="74678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护理技术成本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成本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编制护理预算，将有限的资源适当地分配给预期的或计划        中的各项活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开展护理服务的成本核算，提高病人得到的护理照顾的质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进行护理成本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效益分析，计算护理投入成本与期望产出之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开发应用护理管理信息系统，进行实时动态成本监测与控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838080" y="1676520"/>
            <a:ext cx="746784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护理技术成本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成本核算方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项目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床日成本核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相对严重度测算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分类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种分类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综合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838080" y="1523880"/>
            <a:ext cx="74678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护理技术成本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成本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效益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成本与收费的比较分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实际成本与标准成本的比较分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成本内部构成分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量本利分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成本的效益分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成本的效果分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成本的效用分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838080" y="1676520"/>
            <a:ext cx="74678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护理技术成本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五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成本控制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根据定额制订成本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执行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确定差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除差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控制在护理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838080" y="1676520"/>
            <a:ext cx="74678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护理技术成本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降低护理成本途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人力成本方面，应做到科学编配、合理排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物力成本方面，应注意节约，防止浪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实行零缺陷管理，减少护理缺陷、差错、事故的发生，防范护患纠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二胖\Desktop\QQ图片201407271454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68" name="矩形 10"/>
          <p:cNvSpPr/>
          <p:nvPr/>
        </p:nvSpPr>
        <p:spPr>
          <a:xfrm>
            <a:off x="5257800" y="1143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思考与训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任意多边形 12"/>
          <p:cNvSpPr/>
          <p:nvPr/>
        </p:nvSpPr>
        <p:spPr>
          <a:xfrm>
            <a:off x="533520" y="2895480"/>
            <a:ext cx="6394320" cy="119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17640" anchor="ctr">
            <a:no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描述控制的过程及基本原则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答： 控制的过程包括确立标准，衡量成效，纠正偏差三个步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控制的基本原则包括：与计划相一致的原则、组织机构健全的原则 、控制关键问题的原则 、客观性原则、标准合理性原则、及时性原则、追求卓越的原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Users\二胖\Desktop\QQ图片201407271454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71" name="矩形 10"/>
          <p:cNvSpPr/>
          <p:nvPr/>
        </p:nvSpPr>
        <p:spPr>
          <a:xfrm>
            <a:off x="5257800" y="1143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思考与训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任意多边形 12"/>
          <p:cNvSpPr/>
          <p:nvPr/>
        </p:nvSpPr>
        <p:spPr>
          <a:xfrm>
            <a:off x="533520" y="2895480"/>
            <a:ext cx="6394320" cy="119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17640" anchor="ctr">
            <a:no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有效控制系统应具备哪些特征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答：有效控制系统应具备的特征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控制的目的性与对象的明确性 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信息的准确性和及时性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控制的灵活性和适用性；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控制内容的广泛性和标准的多重性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控制关键点与强调例外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员工认同与自我控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二胖\Desktop\QQ图片201407271454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74" name="矩形 10"/>
          <p:cNvSpPr/>
          <p:nvPr/>
        </p:nvSpPr>
        <p:spPr>
          <a:xfrm>
            <a:off x="5257800" y="1143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思考与训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12"/>
          <p:cNvSpPr/>
          <p:nvPr/>
        </p:nvSpPr>
        <p:spPr>
          <a:xfrm>
            <a:off x="533520" y="2895480"/>
            <a:ext cx="6394320" cy="119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17640" anchor="ctr">
            <a:no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如何进行护理安全管理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答：进行护理安全管理应从以下几个方面考虑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建立健全护理安全管理组织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健全护理安全管理制度并认真落实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加强护理安全意识、法律意识培养和职业道德教育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提高业务能力和技术水平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合理配置人力资源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提高住院环境安全度，加强物质管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认真贯彻执行中国医院协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00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患者安全目标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二胖\Desktop\QQ图片201407271454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77" name="矩形 10"/>
          <p:cNvSpPr/>
          <p:nvPr/>
        </p:nvSpPr>
        <p:spPr>
          <a:xfrm>
            <a:off x="5257800" y="106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思考与训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任意多边形 12"/>
          <p:cNvSpPr/>
          <p:nvPr/>
        </p:nvSpPr>
        <p:spPr>
          <a:xfrm>
            <a:off x="533520" y="2895480"/>
            <a:ext cx="6394320" cy="119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17640" anchor="ctr">
            <a:no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以小组为单位，调查一护理单元，根据调查情况，为科室拟定控制成本的详细方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答案要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根据年度病人护理级别平均数、工作总量，适当考虑人员进修、培训、产假等因素分析并确定所需护理人员的编制人数，并根合理排班 ，降低人力成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建立请领、定期清点、使用登记、交接制度，实行零库存，严格控制直接服务所用药品、医用材料、各种低值易耗品的丢失、过期、损坏等浪费现象发生。对仪器设备做到专管共用、定期检查和维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实行零缺陷管理，提倡一次把事情做对、做好，减少护理缺陷、差错、事故的发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图示 8" descr=""/>
          <p:cNvPicPr/>
          <p:nvPr/>
        </p:nvPicPr>
        <p:blipFill>
          <a:blip r:embed="rId2"/>
          <a:stretch/>
        </p:blipFill>
        <p:spPr>
          <a:xfrm>
            <a:off x="536400" y="1262160"/>
            <a:ext cx="8236080" cy="3998880"/>
          </a:xfrm>
          <a:prstGeom prst="rect">
            <a:avLst/>
          </a:prstGeom>
          <a:ln w="0">
            <a:noFill/>
          </a:ln>
        </p:spPr>
      </p:pic>
      <p:sp>
        <p:nvSpPr>
          <p:cNvPr id="56" name="矩形 9"/>
          <p:cNvSpPr/>
          <p:nvPr/>
        </p:nvSpPr>
        <p:spPr>
          <a:xfrm>
            <a:off x="1101960" y="609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:\Users\二胖\Desktop\QQ图片201407271454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0" name="矩形 10"/>
          <p:cNvSpPr/>
          <p:nvPr/>
        </p:nvSpPr>
        <p:spPr>
          <a:xfrm>
            <a:off x="5257800" y="106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思考与训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任意多边形 12"/>
          <p:cNvSpPr/>
          <p:nvPr/>
        </p:nvSpPr>
        <p:spPr>
          <a:xfrm>
            <a:off x="533520" y="2895480"/>
            <a:ext cx="6394320" cy="119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17640" anchor="ctr">
            <a:no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以小组为单位，调查一护理单元，根据调查情况，为科室拟定控制成本的详细方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答案要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根据年度病人护理级别平均数、工作总量，适当考虑人员进修、培训、产假等因素分析并确定所需护理人员的编制人数，并根合理排班 ，降低人力成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建立请领、定期清点、使用登记、交接制度，实行零库存，严格控制直接服务所用药品、医用材料、各种低值易耗品的丢失、过期、损坏等浪费现象发生。对仪器设备做到专管共用、定期检查和维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实行零缺陷管理，提倡一次把事情做对、做好，减少护理缺陷、差错、事故的发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C:\Users\二胖\Desktop\护理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一  控制职能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85800" y="1596960"/>
            <a:ext cx="74674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控制的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从管理学的角度定义，控制是指管理者按照制定的计划和标准，监督检查工作的执行情况，规范组织行为，使其与组织计划、目标和预期的成效标准一致的系统行动过程。即管理者对管理对象的工作绩效进行监测、衡量和评价，并针对出现的偏差及时采取相应纠正措施的过程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一  控制职能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685800" y="1596960"/>
            <a:ext cx="7467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 、控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控制工作在执行组织计划中起保障作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控制工作在管理的各项职能中起关键作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控制工作可以使组织超越现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一  控制职能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838080" y="1523880"/>
            <a:ext cx="746784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控制的原则及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一）控制的原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与计划相一致的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组织机构健全的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控制关键问题的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客观性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标准合理性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及时性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一  控制职能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1295280" y="1374840"/>
            <a:ext cx="74678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控制的原则及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一）控制的原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与计划相一致的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组织机构健全的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控制关键问题的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客观性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标准合理性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及时性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追求卓越的原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一  控制职能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1295280" y="1374840"/>
            <a:ext cx="746784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控制的原则及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二）控制的特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控制的目的性与对象的明确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信息的准确性和及时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控制的灵活性和适用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控制内容的广泛性和标准的多重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控制关键点与强调例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员工认同与自我控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一  控制职能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838080" y="1066680"/>
            <a:ext cx="73915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、控制的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按控制的业务范围可分为技术控制、质量控制、资金控制、人力资源控制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按控制的时间可分为日常控制、定期控制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按控制内容的覆盖面可分为专题控制、专项控制和全面控制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按管理者控制和改进工作的方式可分为间接控制和直接控制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依据纠正偏差措施的作用环节不同，控制可分为前馈控制、同期控制和反馈控制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UP</dc:creator>
  <dc:description/>
  <dc:language>en-US</dc:language>
  <cp:lastModifiedBy>acer</cp:lastModifiedBy>
  <dcterms:modified xsi:type="dcterms:W3CDTF">2021-07-15T06:00:03Z</dcterms:modified>
  <cp:revision>1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